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BB6-1B5E-493E-8C07-264CBAF0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3DA-439D-495C-AAD9-8AC2CE4C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CA89-AFD2-4944-8DF8-5EACAAFE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067-791E-45FA-8A95-F29FCC58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DC6F-F65D-4CEF-81DE-3A57ED29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C280-8E6E-46B6-A3AA-A2548E67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FB39-56FA-4643-9FE8-6A8D2271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BA01-A4EA-4A18-BB4E-071155BD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F9C8-2C4E-4050-B943-14BDB9BC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C03C-8AB4-4FF0-BC38-7592A601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DAE8-0031-45E9-99EB-41B7B42F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435-0492-4F33-85CA-49B3E350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4AD2-64EA-4D77-BBB4-C290DB2B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0FFD-8913-4703-BF8C-E82D9A67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5E38-0169-45E8-AAA6-CA4ECDF8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F8A0-3A1A-412B-973F-BA9C28D7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D52B-3B90-42E6-BF60-634093BC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646-1C71-4F74-9F53-31E1B138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56A-1D43-4C16-89AE-04EBCE69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60D3-FA98-496D-BDF2-E06102C8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8D7-8AD4-41BD-A856-FB644F8A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FBE-398A-4841-BCB7-B9863D76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379-3DB0-4287-B842-4D570F3D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D07-A66C-4A97-AF81-D578B4AC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E197-E7FF-4847-A4B7-25E66552683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78E4-7F1F-4091-B96A-84F777FECD4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2920" y="285840"/>
            <a:ext cx="86072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я Большого взры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4" descr="Glowing_Eye_Nebula"/>
          <p:cNvPicPr/>
          <p:nvPr/>
        </p:nvPicPr>
        <p:blipFill>
          <a:blip r:embed="rId1"/>
          <a:stretch/>
        </p:blipFill>
        <p:spPr>
          <a:xfrm>
            <a:off x="2928960" y="2786040"/>
            <a:ext cx="4605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5724360" y="333360"/>
            <a:ext cx="3419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Столкновение нашей Галак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 000 километров в ча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00000119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611280" y="1125360"/>
            <a:ext cx="83534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гуляр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Что было до Большого взрыв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395280" y="189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Загадки теории Большого взры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79280" y="907920"/>
            <a:ext cx="8964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Glowing_Eye_Nebula"/>
          <p:cNvPicPr/>
          <p:nvPr/>
        </p:nvPicPr>
        <p:blipFill>
          <a:blip r:embed="rId1"/>
          <a:stretch/>
        </p:blipFill>
        <p:spPr>
          <a:xfrm>
            <a:off x="0" y="1528920"/>
            <a:ext cx="4605480" cy="5329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5148360" y="333360"/>
            <a:ext cx="3995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Теория Большого Взры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сширяющуюся Вселенную и существование космического фонового изл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4000" y="549360"/>
            <a:ext cx="856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6877080" y="174600"/>
            <a:ext cx="226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Начало звездо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00000078"/>
          <p:cNvPicPr/>
          <p:nvPr/>
        </p:nvPicPr>
        <p:blipFill>
          <a:blip r:embed="rId1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6372360" y="189000"/>
            <a:ext cx="252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Первые галакт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522936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00000064"/>
          <p:cNvPicPr/>
          <p:nvPr/>
        </p:nvPicPr>
        <p:blipFill>
          <a:blip r:embed="rId1"/>
          <a:stretch/>
        </p:blipFill>
        <p:spPr>
          <a:xfrm>
            <a:off x="0" y="0"/>
            <a:ext cx="6372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6084720" y="0"/>
            <a:ext cx="3059280" cy="61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Туманность Песочных час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00000061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5580000" y="0"/>
            <a:ext cx="356400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Туманность Кра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00000062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4932360" y="0"/>
            <a:ext cx="421164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Arial"/>
              </a:rPr>
              <a:t>Млечный 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00000026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0000005"/>
          <p:cNvPicPr/>
          <p:nvPr/>
        </p:nvPicPr>
        <p:blipFill>
          <a:blip r:embed="rId1"/>
          <a:stretch/>
        </p:blipFill>
        <p:spPr>
          <a:xfrm>
            <a:off x="5732640" y="0"/>
            <a:ext cx="3411360" cy="4437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00000136"/>
          <p:cNvPicPr/>
          <p:nvPr/>
        </p:nvPicPr>
        <p:blipFill>
          <a:blip r:embed="rId2"/>
          <a:stretch/>
        </p:blipFill>
        <p:spPr>
          <a:xfrm>
            <a:off x="0" y="2133720"/>
            <a:ext cx="5435640" cy="4724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5686560" y="530064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этом снимке показана спиральная галактик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0" y="47628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37:46Z</dcterms:created>
  <dc:creator>User</dc:creator>
  <dc:description/>
  <dc:language>en-US</dc:language>
  <cp:lastModifiedBy>User</cp:lastModifiedBy>
  <dcterms:modified xsi:type="dcterms:W3CDTF">2012-06-16T08:02:05Z</dcterms:modified>
  <cp:revision>7</cp:revision>
  <dc:subject/>
  <dc:title>Слайд 1</dc:title>
</cp:coreProperties>
</file>